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8906-2472-4AE1-862D-9157B192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4F9-274F-4466-AD70-A8320F8CD5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366-B714-44BE-BFDA-B705CB73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F069-DF04-4CAB-8767-98851C35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2E6-2160-4EFF-B3F2-E51AF997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3EB-FF95-476E-8ED9-5237D38A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4FB-35F1-4EDA-B81C-4EB15E25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E8E-CDFF-4868-87DF-D788979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053-E6CB-4E14-AA03-F0C8D725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61C-DF1C-4804-B05F-CDDF0B5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563-C6BD-4C45-8867-CF4D0566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AB1-2878-49C6-B35B-430140BC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126-1BCA-44BE-855A-3B95EC1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F21-2969-4B09-B950-4A20359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35E-70F5-4E26-BCF8-53AA669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012-A3A2-4D5B-AC2D-D4C789E0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919-8BF6-4692-93C6-F51C844D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6F4-99BF-4475-9A90-CD35FD72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F0D-4766-4697-BA14-04BBDCC19F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187280" y="126828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356000" y="558972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лацији получврстих препарата треба узети 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 особ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сусптанц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љивост, концентрац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ип емулзије, стабилност, степен пенетрације, сопствено деловање у смислу оклузије, хидратације, емолијентног делов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ње, подручје коже, претходно леч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1547640" y="134136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а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Ana Radovanovic\Downloads\koza.gif"/>
          <p:cNvPicPr/>
          <p:nvPr/>
        </p:nvPicPr>
        <p:blipFill>
          <a:blip r:embed="rId1"/>
          <a:stretch/>
        </p:blipFill>
        <p:spPr>
          <a:xfrm>
            <a:off x="1619280" y="1828800"/>
            <a:ext cx="4968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получврстих препарата на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коже – локално 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посредну терапију кожних болести или кожних манифестација системских боле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кератолитицима, антисептицима, заштитне масти на бази силиконских једињења, препарати за сунчањ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а апсорпција и накупљање активне супстанце у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љим слојевима кож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антифлогистицима (против отеклина), антиреуматицима, антихистаминицима, кортикостероидима и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Трансдермално – системск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лековите супстанце на кожу са циљем да се постигне њен системски ниво и системско дел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нитроглицерином или атхезивни трансдермални терапијски систе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пенетрацију лековите супстанце у кож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, величина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јон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,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циони коефицијент под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 – убрзивачи пенетрације (инхенсери): пропиленгликол, олеилолеат, изопропилмирист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7142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одлога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1520" y="2212560"/>
            <a:ext cx="731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подлоге - МАСТИ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е подлоге (само масне компонен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оне подлоге (базе): масне компоненте + емулга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 ХЛБ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макрого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логе са водом - КРЕМ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и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5755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988640"/>
            <a:ext cx="8135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једнофазне подлоге у којој је диспергована једна или више лековитих супстанци чврсте или течне конзистенције. Могу бит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е масти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да апсорбују малу количину воде, за њихову израду користе се парафини (чврсти, меки и течни), биљна уља, воскови, жи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њск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и, синтетски глицери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које емулгују воду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ају способност да апсорбују већу количину воде, па се називају и апсорпционе базе. Подлози се додаје емулгатор типа В/У као што су безводни ланолин (холестерол), ланолински алкохоли, масни алкохо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масти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адрже подлоге које се мешају са водом (смеше течних и чврстих макрогола – полиетиленгликоли, ПЕГ) и могу да садрже одређену количину вод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п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за хидрофобне масти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е подлог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рже воду, могу да емулгују малу количину вод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омпоненте које улазе у састав безводних подло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 (чврсти и течни парафин, вазел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(маслиново, кикирикијево, сунцокретово, хидрирано рицинусо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(бели пчелињи восак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alba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ути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flava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aceum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олин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la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– стеаринска, оле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масни алкохоли (цетил-, стеарил-, цетостеарилалкохол, холестер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т – р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масне материје - синтетски естри, полиалкилсилокс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cipiens ad unguen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biotic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типа апсорпционих база – могу да емулгују воду, захваљујући присутном емулга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типа емулгатора могу бити липофилне и хидрофилне апсорпционе подл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ФИЛ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псорпционе подлоге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х састојака течне, получврсте и чврсте конзистенциј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 емулгатор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естерол, цетостеарол, естри сорбит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lana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водни ланоли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ка и слободних масних киселина, слободних алкохола и око 95% естара (холестерола и масних киселина) који омогућују да ланолин може да емулгује воду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је 2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ладн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липофилне апсорпционе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unguenta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lanalcoli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vaselini hydrophilicum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es adipis lanae unguentum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cerinum anhydr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клузија, машћење коже (хиперкератоз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употребу примењују се на кожу или слузокожу, у циљу постизања локалног деловања, перкутане пенетрације лековите супстанце, емолијентног или заштитног деловања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примену на кожи 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molles ad usum dermicu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псорпционе подлоге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а липофилних састојака течне, получврсте и чврсте конзистенциј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емулга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тостеарилалкохол емулгујући тип А, цетостеарилалкохол емулгујући тип Б, мешавине нејонских емулгато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официналних подло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emulsificans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emulsificans anionicum III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ужа примена доводи до исушивањ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ГОЛИМ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макрогола (полиетиленгликола ПЕГ) течне и чврсте конзистенције са/без одговарајуће количине воде (15-2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макроголне м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дон ј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идрофил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 10% (МФ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macrogoli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ушивање масне коже, погодно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оре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омпатибил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фин, вазелин; ПЕГ са сулфонамидом, таргезином, аминофеназоном даје обојена једињења; бацитрацин се инактивира у ПЕГ подлози; ПЕГ реагују са пластичном амбалажом (користити алуминијумск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водом -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вишефазни препарати следећег састав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фаза + водена фаза + емулгатор или комбинација (мешани емулгатор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– емулзије типа В/У= масни кремов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 - емулзије типа У/В = водени кремов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 - емулзије мешовитог тип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326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подлога типа емулзија, зависи од бројних факто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ог типа емулзије, стања коже, врсте дермат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 масн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 масне и воден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а емулгатора и ХЛБ вред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лековите супстанце (пожељно је да је растворена у спољашњој фази због веће биорасположиво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и, липофилни или масни кремов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емулзиони системи типа В/У, садрже В/У емулгаторе (безводни ланолин (холестерол), естри сорбитана –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ноестри глицерола-моноглицерид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емулговањем водене фазе у масну, претходно загрејане на одређеној температу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lanalcoli aquosu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lanae cum aqu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spantenol lipofilni kr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klosan lipofilni kr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emollie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масни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емо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ју одавање воде кроз кож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имене-размазивања, вода испарава а на кожи остаје масни фил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 емолијентног ефекта и благо оклузивног ефекта на кожи. Чине кожу меком и еластич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 са цинк-оксидом или диметиконом штите кожу одојчади испод пел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но делују на суве дерматоз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, водени или периви крем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емулзиони системи типа У/В, садрже У/В емулгаторе (натријумови или 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оламин сапуни; полисорбати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шани емулгато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и су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хумектансе у конц. 5-10% који спречавају исушивање крема (глицерол, пропиленглик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велике количине воде (60-70%) садрже конзервансе (сорбинска киселина, калијум-сорбат, парабе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8856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размазују, не масте ко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-хладећи ефекат (при испаравању во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 за себороичну кожу, кожу која сврби, која је црвена и упаљ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 за инкорпорирање хидросолубилних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ог изгл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% је в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диковани код себостазе и атопијског дерматитиса јер дуготрајна примена може довести до исушивањ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х кремо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који се састоје од стеаринске киселине (масна фаза), водене фазе, базне компоненте (ТЕА, боракс, NaOH) и других помоћних компон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е се масна у водену фазу, загрејане на 80-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при чему се у реакцији стеаринске киселине и базне компоненте гради мешани емулгатор (ТЕА- стеарат, Nа-стеарат итд.) и настаје емулзија типа У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жи остављају мат филм, дају пријатан осећај и лако се спирају с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као кремови за дневну негу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14560"/>
            <a:ext cx="86421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 - прелазни облик између У/В и В/У крем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масне, водене фазе и релативно великог удела одређених У/В и В/У емулг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емулгују одређену количину уљаног раствора лековите супстанце (мин. 25%) при чему настаје стабилан крем типа В/У (без промене у конзистенциј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емулгују одређену количину воде и водених раствора лековите супстанце (мин. 25%) на собној температури и да настане стабилан крем типа У/В; ако је већа количина воденог раствора настаје стабилна течна емулзија – лосион типа емулзија У/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стријске амфифилне подлог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с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б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дер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2205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 се састоје из једноставних или сложених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ојима је једна или виш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 супстанц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а или диспергована (суспендов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хомогеног изгле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олико се примењују на велике, отворене ране или на озлеђену ко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нису стерилни морају да задовоље одговарајући микробилошки квалитет 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а 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би требало да буд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епарат не би утицао на физиолошки киселу реакцију ко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 реолошке особ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826920" y="1052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лучврстих препарата за примену на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 изглед, добра размазивост, лако сп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– 6), садржај воде око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код већине дерма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ековитих масти (кремова) на хладно (собна темпера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озметичких кремова и лосиона на хла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блаживање индустријски израђених кремова са кортикостероид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8281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е производ од микробиолошке контаминације у току израде/производње, паковања, складиштења и спречавају контаминацију у току употреб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 се осигура фармакопејски захтевана микробиолошка чистоћа препарата до истека рока употреб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рају се додавати у безводне (анхидроване ) препарате, али морају у хидрофилне кремове и гел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може бити смањена адсорпцијом на пластичну амбалажу или неке супстанце у препарату (талк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-окси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010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компоненте у изради масти и кремо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о је да се конзерванс боље раствара у воденој фази него у масној јер се и микроорганизми размножавају у воденој сре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 мора бити потврђе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.1.3 – Ефикасност конзерван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је урадити добру процену односа ефикасности конзерванса и могућих нежељених дејстава за корисника (контактни дерматити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б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-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параб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2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л алкох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–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-сорб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заштите компоненти препарата од оксидативних процеса, са циљем спречавања деград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омпоненте су најподложније оксидацији, па се антиоксиданси обавезно дадају мастима и кремовима типа В/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 се комбинују са синергистима (секундарним антиоксидансима) – постиже се већа стаб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антиоксидан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тилхидроксито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утилхидроксианизол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галне киселин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– 0,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– 0,0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аскорбинске киселин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 – 0,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и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а киселина                            0,01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киселина                       0,01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ска киселина                                 0,01 – 0,0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ект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роскопне материје које се додају у гелове и кремове - првенствено типа У/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у воду за себе и на тај начин спречавају одавање воде из препарата и њихово исушивање у току чувања и употреб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ОЛУЧВРСТИХ ПРЕПА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440" y="2491920"/>
            <a:ext cx="7856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ПОСТУПКА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ЗАВИСИ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препа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 и типа подл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а израда: патена, пистил, тарио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а израда и/или индустријска производња: дупликатори са округлим дном; мешалице (планетарне или пропелерског типа); хомогенизатори (разни, колоидни млин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90080" y="1916280"/>
            <a:ext cx="8774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лековита супстанца се уситни до степена финог прашка и просеје кроз сито 0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поступ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игациј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танца се меша са мало подлоге или неке течне компоненте подлоге (течни парафин, глицерол, ланолин) док не настане глатка дисперзија (па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остатка подлоге до израде хомогене 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хомогеност масти у индустријским условима постиже се пропуштањем масти кроз троваљ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и сигн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масти типа суспенз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типа раствор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итњена лековита супстанца се раствара у подлози уз благо загревање по потреб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е подлоге се отопе на воденом купатилу (по опадајућој тачки топљења) и подлога додаје супстанци ради њеног растварања. Меша до хлађења на собној температу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е, термолабилне супстанце (етарска уља или парфеми) додају се на температури 40-45 °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лековиту супстанцу растворити у неком органском растварачу, а након мешања са подлогом растварач упарити благим загревањем – пр. маст са кортикостероидима и примена хлороформа као раствара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масти методом топљењ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и се ради добијања препарата са нижом концентрацијом лековите супстанце (педијатријски пацијен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ђују се помоћу индиферентних подлога, ако није другачије прописано, истог типа подлоге која је у индустријски израђеном препар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р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ђивање врши амбифилним подлогама у различитим односима (1:1; 1:2; 1:5; 1: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- 14 дана од израде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 или крем са кортикостерои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ђивање готових масти и крем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олучврстих препарата за примену на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 Eur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флас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лни флас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2301840"/>
            <a:ext cx="8243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се припремају масна и водена фаз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и масне материје које су у чврстом стању, отопе се на воденом купатилу и загреју на температуру између 60-80 °С (за хидрофилне кремове не испод 70 °С) и у врућој уљаној фази растворе све неиспарљиве липосолубилне компоненте које су састојци масне фаз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а количина пречишћене воде загреје се на температуру која је за 2 – 5 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а од температуре масне фазе, и у њој растворе све хидросолубилне - термостабилне супстанц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се раствара у једној од фаза у зависности од особ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РЕМОВА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топљењ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699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ано али континуирано додаје се топла водена у топлу масну фазу, уз стално, енергично и пажљиво мешање да дође до емулговања, без инкорпорирања ваздуха; затим, док је систем још течан пропушта кроз хомогенизатор и хлади уз благо мешање до хлађења, док не очврс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лабилне, испарљиве компоненте се додају на температури 40 – 45 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се морају конзервисати због великог садржаја воде. Конзерванс или смеша конзерванаса се обавезно растварају у воденој ф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 типа У/В без конзерванса не могу се чувати дуже од 1 месец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који се састоје од течности која је гелирана погодним гелирај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средство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Деле се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е-липофилне геле (олеогеле)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 гелиран са полиетиленом  или масна уља гелирана алуминијум стеа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геле (хидрогеле)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пропиленгликол или глицерол гелирани карбомером или дериватима целул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413000"/>
            <a:ext cx="389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рајућа сред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5 – 30%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алг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етилцелулоза и други деривати целул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-Al-сили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859280" y="1413000"/>
            <a:ext cx="4033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сор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а сорбинск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. и К-сорб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бензо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ге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2214720"/>
            <a:ext cx="80010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ити хидратацију (бубрење) гелирајућег средства у делу или целокупној количини течне фаз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спстанца може да се раствори у делу или целокупној количини течне фазе или ређе да се суспендује у припремљену гел подл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 се у току израде гела раствори у води са или без додатка ко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глед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скозитет и микробиолошки квалите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ивање количине лековите супстанце и конзерв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071800"/>
            <a:ext cx="82486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 су получврсти препарати који садрже велики удео ситних, чврстих супстанци (15 до 50 %) диспергованих (суспендованих) у подлози од липофилних састојака, без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сте супстанце: цинк-оксид, титан-диоксид, талк, скроб, салицилна кисе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на кожи: упијање секрета и исушивање 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и екцем, псоријаз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длога користе се липофилни састојци без воде (бели вазелин или мешавине са ланолином или маслиновим уљ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061640"/>
            <a:ext cx="8002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е пас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о 50 % чврстих супстанци): делују покривно и исушују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 пас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 15 до 30 % чврстих 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д суве коже и влажних екц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 pas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pasta salicylat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глед, конзистенција, хемијска стабилност, хомоге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001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репарата /органолептички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(з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en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 велике ране и опекот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 подлоге и лековите масти (пенетроме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е карактеристике препарата (ротациони вискозимета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 - способност емулговања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3,5 – 8,0/ - потенциометр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(кондуктометриј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492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итих масти, кремова и ге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итих масти, кремова и ге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492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величине че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тегориј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азмаз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ослобађања активне супстанце из получврстих препарата за ко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(физичка:на собној и повишеној темп. 40-50 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хемијска: у току чувања – проме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нцентрације лековите супстанце, оксидација масних састојака, фотостабилност, микробиолошка стабил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локалне дерма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се бира на основу врсте дерматозе а подлога према стадијуму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подлоге (хидрогели, хидрофилни кремови) – терапија акутних, влажних дерматоза, дерматоза праћених сврабом јер хладе и донекле суше к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е подлоге (масни кремови, олеогелови) – терапија хроничних, сувих дерматоза јер спречавају губитак воде из коже (оклузивни ефекат), чине кожу мекшом и еластичн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е получврстих препар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638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ЕКОВИТА(Е) СУПСТАНЦА(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ЛО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ТАЛЕ помоћне супстанце (конзерванси, хумектанси, антиоксиданси, средства за гелирање ит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hualGfSQPq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СЕП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, повидон – јод, бензалконијум-хлори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ТРИ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СИ: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-субгала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ИНФЛАМАТОРНА СРЕД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ОГЛУКОКОРТИКОИД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цинолон, кортизолон, бетаметаз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ин, хлорамфеникол, бацитрацин, неомицин, клиндамицин</a:t>
            </a:r>
            <a:r>
              <a:rPr b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ИКО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татин, кетоконазол, миконаз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ОТЕРАПЕУ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онидаз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РАНОЛ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лецење псоријаз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з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је носач лековите супстанце, састављен од једне или више помоћних супстанци, али и сама испољава ефекат (емолијентни, заштитн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омпонентна подлог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пр. бели вазели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компонентна подлога (две и више компонен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састојци (угљоводоници, воскови, масне киселине, биљна уља, масни алкохоли, синтетско уљ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гелир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, антиоксиданси (по потреб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ектанси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длоге за получврсте препарате за примену на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и хемијски стаби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а са већином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азива иритацију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мириса и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лако размазује по површини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тавља танак, невидљив филм на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ва пенетрацију лека у дубље слојеве ко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лобађање супстанце, пенетрација кроз stratum corneum, дифузија кроз епидермис и дермис у зависности од деловања л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д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бољења које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римене (лице, тело, гл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супстанце која се инкорпор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 брзине ослобађања лековите супстанце (брже из хидрогела, спорије из масти типа суспен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15T11:10:30Z</dcterms:modified>
  <cp:revision>275</cp:revision>
  <dc:subject/>
  <dc:title>Slide 1</dc:title>
</cp:coreProperties>
</file>